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7.jpeg" ContentType="image/jpeg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4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9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768D-CA60-4CD4-9EE8-94DC30E5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699-5D98-4379-AB97-3F7231F5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080-33C2-4FCD-AC10-BE93E03B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8D3-9D1D-46DE-BAF1-00271227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2CA3-B963-4D0D-B4FF-4B6A49E4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7441-6672-47CE-BD57-9EE22F2BA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C482-E9A6-445B-9892-074DFAA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A65D-D2E9-4FB4-95A6-1069F14B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7506-1A0D-47B7-98BE-0B93B3E2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5C11-B4CC-4F8D-9D01-60A05EB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A1D7-B6B4-4CBE-9343-67439CD6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6B8-1514-4395-BFA4-58EFA50B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1F5F-7438-47C1-A89B-074812C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772-7C75-4925-A04A-4B21F727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BD15-8641-45B0-9D33-DB3E596E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C2C3-64E0-4B1B-A225-6D6356D1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5F4-2F59-48C7-B0BD-4E774DBE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5FA-1150-49EF-A589-0093489D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CC4-5C90-4CCF-8B2B-B50FF1D0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85A-C54D-4B70-A352-51C91848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E85-568C-4793-82B2-7FB54EE1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9482-D365-42D5-AF4F-54FBA862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B271-68A3-4B0D-AD03-BC252786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5AE-0020-4E09-94B1-AFCB6C8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541D5395-EE9F-468F-A140-5BFBF4DE5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9051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C95F2F06-CA8D-4A8C-AFB2-B7EE233C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0" algn="ctr"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1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271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. Dray (Glebe Collegiate Institu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Geographer’s Toolkit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that measure the distance east or west of the Prime Meridian (0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lines begin and end at the poles and therefore are not at a fixed distance a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me Meridian (0°) was arbitrarily chosen at a point that runs through Greenwich,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national Date Line (180°) is the point where one day begins and one day 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rime Merid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32080" y="2119320"/>
            <a:ext cx="5943600" cy="5221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23000" y="1662120"/>
            <a:ext cx="380880" cy="4648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74880" y="2195640"/>
            <a:ext cx="6232320" cy="5157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75480" y="1967040"/>
            <a:ext cx="0" cy="4876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5080" y="1967040"/>
            <a:ext cx="685800" cy="4572000"/>
          </a:xfrm>
          <a:custGeom>
            <a:avLst/>
            <a:gdLst/>
            <a:ahLst/>
            <a:rect l="l" t="t" r="r" b="b"/>
            <a:pathLst>
              <a:path w="432" h="2880">
                <a:moveTo>
                  <a:pt x="96" y="0"/>
                </a:moveTo>
                <a:lnTo>
                  <a:pt x="96" y="864"/>
                </a:lnTo>
                <a:lnTo>
                  <a:pt x="240" y="1152"/>
                </a:lnTo>
                <a:lnTo>
                  <a:pt x="240" y="1200"/>
                </a:lnTo>
                <a:lnTo>
                  <a:pt x="0" y="1440"/>
                </a:lnTo>
                <a:lnTo>
                  <a:pt x="96" y="1536"/>
                </a:lnTo>
                <a:lnTo>
                  <a:pt x="96" y="2112"/>
                </a:lnTo>
                <a:lnTo>
                  <a:pt x="336" y="2112"/>
                </a:lnTo>
                <a:lnTo>
                  <a:pt x="288" y="2064"/>
                </a:lnTo>
                <a:lnTo>
                  <a:pt x="288" y="2016"/>
                </a:lnTo>
                <a:lnTo>
                  <a:pt x="432" y="2160"/>
                </a:lnTo>
                <a:lnTo>
                  <a:pt x="432" y="2208"/>
                </a:lnTo>
                <a:lnTo>
                  <a:pt x="336" y="2208"/>
                </a:lnTo>
                <a:lnTo>
                  <a:pt x="336" y="2160"/>
                </a:lnTo>
                <a:lnTo>
                  <a:pt x="144" y="2160"/>
                </a:lnTo>
                <a:lnTo>
                  <a:pt x="96" y="2160"/>
                </a:lnTo>
                <a:lnTo>
                  <a:pt x="192" y="2256"/>
                </a:lnTo>
                <a:lnTo>
                  <a:pt x="192" y="2640"/>
                </a:lnTo>
                <a:lnTo>
                  <a:pt x="144" y="2736"/>
                </a:lnTo>
                <a:lnTo>
                  <a:pt x="96" y="2736"/>
                </a:lnTo>
                <a:lnTo>
                  <a:pt x="96" y="288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627360" y="646272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89480" y="135720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6 time zones in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74920" y="2043000"/>
            <a:ext cx="228600" cy="14479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9601200" cy="606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ws the relationship between the distance on a map and the actual distance on the Earth’s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Statement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s words to describe what a distance on a map represents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m = 10 kilome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ar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es a special ruler on a map to show what a distance on a map represents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k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 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 Fraction Sca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atio where one unit on a map represents a specific number of the same unit in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50 000 (1 cm on the map represents 50 000 cm in the real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332080" y="5091120"/>
            <a:ext cx="20574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04920" y="1523880"/>
          <a:ext cx="9601200" cy="4362480"/>
        </p:xfrm>
        <a:graphic>
          <a:graphicData uri="http://schemas.openxmlformats.org/drawingml/2006/table">
            <a:tbl>
              <a:tblPr/>
              <a:tblGrid>
                <a:gridCol w="2400120"/>
                <a:gridCol w="2400480"/>
                <a:gridCol w="2400120"/>
                <a:gridCol w="24004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reets, schools, railway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ographic maps, road maps, city bus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Scale Ma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lit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orders, lakes, large rivers, 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14480"/>
                          <a:tab algn="l" pos="2028960"/>
                          <a:tab algn="l" pos="3043080"/>
                          <a:tab algn="l" pos="4057560"/>
                          <a:tab algn="l" pos="5072040"/>
                          <a:tab algn="l" pos="6086520"/>
                          <a:tab algn="l" pos="7101000"/>
                          <a:tab algn="l" pos="8115480"/>
                          <a:tab algn="l" pos="9129600"/>
                          <a:tab algn="l" pos="1014408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es, world maps, atla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be Colleg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865600" y="2728800"/>
            <a:ext cx="6024240" cy="451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855960" y="4481640"/>
            <a:ext cx="1219320" cy="1215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1000" y="5091120"/>
            <a:ext cx="350496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6960" y="280512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637000" y="1585800"/>
            <a:ext cx="6426000" cy="5251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ebe Community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41960" y="4484520"/>
            <a:ext cx="914400" cy="911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6480" y="5014800"/>
            <a:ext cx="281952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22600" y="432900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484360" y="2365200"/>
            <a:ext cx="6172200" cy="46245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7242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y of Ottawa-Carl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684760" y="349092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41560" y="394812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79600" y="265284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Ontario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13160" y="2043000"/>
            <a:ext cx="5303880" cy="4530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885160" y="2805120"/>
            <a:ext cx="228600" cy="22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41960" y="288144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51400" y="2652840"/>
            <a:ext cx="221904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ario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94400" y="1433520"/>
            <a:ext cx="5084640" cy="5580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9037800" y="5396040"/>
            <a:ext cx="228600" cy="226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599160" y="547200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18080" y="471024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grapher’s Toolk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of a Ma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53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533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Your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Ma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inage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r Island Mapping Exerci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32280" y="1662120"/>
            <a:ext cx="5989680" cy="5114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8199360" y="6081840"/>
            <a:ext cx="152640" cy="1508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913360" y="615780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475080" y="570060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e – Mapping Our Loc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475080" y="2195640"/>
            <a:ext cx="6400800" cy="4011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998960" y="3795840"/>
            <a:ext cx="152640" cy="15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637000" y="3948120"/>
            <a:ext cx="2286000" cy="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60480" y="3262320"/>
            <a:ext cx="22194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are her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560844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Purpos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drawn to scale using symbols and colours to indicate major roads for transportation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ludes parks, hospitals, and tourist at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both small scale (a country map) and large scale (a city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989680" y="2119320"/>
            <a:ext cx="3801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31316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urpose Map of the “Golden Horseshoe” (Niagara Falls to Claringt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815000" y="1204920"/>
            <a:ext cx="4832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pographic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that indicates scale, using symbols and colours for both natural and human features on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Earth’s surface in great detail (large sc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s the height of land features (topograp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shows roads, settlements, vegetation cover, power li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837400" y="5014800"/>
            <a:ext cx="32702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38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graphic Map of Blue Mountain (Collingw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322800" y="1357200"/>
            <a:ext cx="66294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atic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p that reveals the geographic patterns of statist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designed to display distributions over the Earth’s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focuses on o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 or top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population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989680" y="3795840"/>
            <a:ext cx="38606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1296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atic map showing electricity generating stations in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2941560" y="1281240"/>
            <a:ext cx="70866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gital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923000" y="2347920"/>
            <a:ext cx="455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74680" y="150984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Maps is an example of an online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103480" y="2119320"/>
            <a:ext cx="5943600" cy="4799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408400" y="6919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33720" indent="-33372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maps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a Ma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p is a representation of the Earth’s features drawn on a flat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use symbols and colours to represent features of an area, simplifying the real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408400" y="3573360"/>
            <a:ext cx="5467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es of Ma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74680" y="150984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 Earth is an example of a computer program using digital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08400" y="6919920"/>
            <a:ext cx="5029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33720" indent="-33372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ww.earth.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179800" y="2612880"/>
            <a:ext cx="594360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itical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932280" y="1317600"/>
            <a:ext cx="6019920" cy="4954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368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is m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”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p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loured provinc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8320" y="6575400"/>
            <a:ext cx="873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You CAN use the same colour more than once, so long as it doesn’t touch a province or territory with that same col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ainage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495680" y="1795320"/>
            <a:ext cx="5608800" cy="494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656560" y="6386400"/>
            <a:ext cx="1494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4922640" cy="57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o this ma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s, Lakes, Rivers, Bays, and Gulfs as listed on your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map essent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ada land coloured 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ter coloured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ther land coloured grey (or bei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ar Island Mapping Exerc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land is in the shape of a p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exactly 10 km long and 5 km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shoreline at 0 m (sea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a hill at the south end of the island which is 90 m in heigh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d carefully the instructions provi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8047080" y="1585800"/>
            <a:ext cx="1111320" cy="1538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8591400" y="1787400"/>
            <a:ext cx="111132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s on a M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dentifies the area shown, topic, focus, or purpose of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e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xplains the meaning of symbols and colours used on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presents the relationship between distance on the map and distance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often represented with an arr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sets the map apart from othe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-375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e of Publ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ndicates how recent the map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t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rt of drawing accurate, easily readable, attractive ma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neatly pr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spelled cor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parallel to the base of the map (except for natural features such as rivers and mountain ran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ot should be used to locate cities, with the name of the city as close to the dot as 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eatures usually have larger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for similar features should be the same size and font –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te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 U N T 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s should not block other information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p Labelling &amp; Colour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s should be properly colour coded to show the different areas on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e consistently so that there are no light or dark patches of one colour within one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id colours only, not shad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or black are not acceptable shading col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y should be used for areas not important to th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should only be used for water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nts on a Comp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58988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ass is a way of finding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cardinal points are N, E, S,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elve ordinal points are NE, SE, SW, NW, NNE, ENE, ESE, SSE, SSW, WSW, WNW, NN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ints all have corresponding degrees of a circle (0° → 36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north_arrow" descr=""/>
          <p:cNvPicPr/>
          <p:nvPr/>
        </p:nvPicPr>
        <p:blipFill>
          <a:blip r:embed="rId2"/>
          <a:stretch/>
        </p:blipFill>
        <p:spPr>
          <a:xfrm>
            <a:off x="6904080" y="4100400"/>
            <a:ext cx="26226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nes on the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lines that measure the distance north or south of the Equator (0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s are parallel to the Equator at regular intervals (approximately 111 kilometres apa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8560" y="4253040"/>
            <a:ext cx="5985000" cy="2801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08600" y="5243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08600" y="56246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08600" y="68436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cp:keywords/>
  <dc:language>en-US</dc:language>
  <cp:lastModifiedBy>Customer</cp:lastModifiedBy>
  <dcterms:modified xsi:type="dcterms:W3CDTF">2009-02-06T19:20:10Z</dcterms:modified>
  <cp:revision>9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